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8B8-0976-4743-87DB-6570FEA6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E02-8B0A-4CDF-BB0D-552D1E66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214E-14D1-40AC-B925-FA14B762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772-5A89-49D1-AFC9-3A1AC6AF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16B-8654-4677-8E4C-BC0DEAE7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1760-43CA-4B21-9660-08AF79CB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64D-557F-4C86-A8A8-F39C9414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6200-1639-42A9-9F93-E6DDC8F9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E41B-C862-4C49-BE92-A6F90212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C8E-A332-47ED-819B-DD0AFAC9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4D4-1F01-4493-BE40-B81CF46F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BE48-CDEF-4C3B-A925-2ECD8F99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0D47C-D994-4291-B83D-405F136C7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68280" y="606600"/>
            <a:ext cx="6811920" cy="4601880"/>
          </a:xfrm>
          <a:prstGeom prst="rect">
            <a:avLst/>
          </a:prstGeom>
          <a:ln w="0">
            <a:noFill/>
          </a:ln>
        </p:spPr>
      </p:pic>
      <p:pic>
        <p:nvPicPr>
          <p:cNvPr id="42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869240" cy="1639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28840" y="5110200"/>
            <a:ext cx="6230880" cy="16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2 hours to map out key features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Roehampton University grou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(Physical and Human geography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ng the GP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92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Press the PAGE button until you s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NU sc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Scroll down until y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light WAY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lick OK on waypoints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scroll down to U-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Then click OK. You can th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a waypoint e.g – RU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on it, then click OK and OK agai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rcRect l="30578" t="10267" r="27868" b="11830"/>
          <a:stretch/>
        </p:blipFill>
        <p:spPr>
          <a:xfrm>
            <a:off x="6710400" y="1041480"/>
            <a:ext cx="24336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4044960" y="714240"/>
            <a:ext cx="5154480" cy="599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4538520" cy="59324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825480" y="2705040"/>
            <a:ext cx="8028000" cy="284652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5120" y="92664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N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 PANIC!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 will explain in more detail on Thursda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1197360" y="3060720"/>
            <a:ext cx="75351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Just reme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You are using GPS units and mapping symbols to construct an OS map of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university groun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You are working as a team to come up with the most accurate 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You will have loads of fun and learn valuable fieldwork ski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See you at 12:30!  May the best map win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GPS navigator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"/>
          <p:cNvPicPr/>
          <p:nvPr/>
        </p:nvPicPr>
        <p:blipFill>
          <a:blip r:embed="rId1"/>
          <a:srcRect l="0" t="31592" r="0" b="31592"/>
          <a:stretch/>
        </p:blipFill>
        <p:spPr>
          <a:xfrm>
            <a:off x="1595520" y="1417680"/>
            <a:ext cx="5825880" cy="3203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817560" y="5199120"/>
            <a:ext cx="80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a digital compass. A GPS navigator communicates with the satellites to tell yo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ctly where you are (using co ordinates). They can also tell you where you need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, by having co ordinates already programmed into them. Super clever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 will learn how to use them on our CREATIVE MAPPING CHALLEN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806400" y="3218040"/>
            <a:ext cx="1824120" cy="1822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6094440" y="1166760"/>
            <a:ext cx="26542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first, here is your challenge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be using GPS navigators to guide you to seven different locations in the Roehampton University gr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you get to each location, you will need to complete a mini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walking the grounds, you will also need to work as a team to construct an accur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 map, using agreed symb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A WINNING MAP WILL BE CHOSEN FOR ITS ACCURAC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ill you have in your pack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GPS navigato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clipboard with a template map of the gro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task 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ncils and rubbe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r teacher will have the trail leader’s number to call for assistanc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alibri"/>
              </a:rPr>
              <a:t>But remember – problem solving and teamwork are key aspects of the challeng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fore your arrival, you need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 clear abou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use the GPS navig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construct a basic OS 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Calibri"/>
              </a:rPr>
              <a:t>…</a:t>
            </a:r>
            <a:r>
              <a:rPr b="1" lang="en-US" sz="2800" spc="-1" strike="noStrike">
                <a:solidFill>
                  <a:srgbClr val="77933c"/>
                </a:solidFill>
                <a:latin typeface="Calibri"/>
              </a:rPr>
              <a:t>So listen carefully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These next few moments 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SUPER IMPORTANT!!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491160" y="930240"/>
            <a:ext cx="22924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8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OS mapping tip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"/>
          <p:cNvPicPr/>
          <p:nvPr/>
        </p:nvPicPr>
        <p:blipFill>
          <a:blip r:embed="rId1"/>
          <a:srcRect l="0" t="27736" r="0" b="27736"/>
          <a:stretch/>
        </p:blipFill>
        <p:spPr>
          <a:xfrm>
            <a:off x="873000" y="981000"/>
            <a:ext cx="7446960" cy="31021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790640" y="4194000"/>
            <a:ext cx="725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OS map is a survey map that uses AGREED symbo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try to be super accurate with our positioning and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use the compass and GPS to orientate ourselv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723960" y="5318280"/>
            <a:ext cx="807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you move through the grounds, look out for features that are alread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your map. Then you will be able work out where to mark in your fea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the following symbo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se are your symbols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have them on the back of your task car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1044720" y="384120"/>
            <a:ext cx="719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use your GPS uni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1" descr="image001et.jpg"/>
          <p:cNvPicPr/>
          <p:nvPr/>
        </p:nvPicPr>
        <p:blipFill>
          <a:blip r:embed="rId1"/>
          <a:srcRect l="1142" t="0" r="114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r locations (waypoints) are call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2289240" y="1204920"/>
            <a:ext cx="4462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 can go to each location in whi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er order you wish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you program a location i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will direct you there, using an arrow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49800" b="0"/>
          <a:stretch/>
        </p:blipFill>
        <p:spPr>
          <a:xfrm>
            <a:off x="5997600" y="2228760"/>
            <a:ext cx="2600280" cy="4492800"/>
          </a:xfrm>
          <a:prstGeom prst="rect">
            <a:avLst/>
          </a:prstGeom>
          <a:ln w="0">
            <a:noFill/>
          </a:ln>
        </p:spPr>
      </p:pic>
      <p:cxnSp>
        <p:nvCxnSpPr>
          <p:cNvPr id="68" name="Straight Arrow Connector 8"/>
          <p:cNvCxnSpPr/>
          <p:nvPr/>
        </p:nvCxnSpPr>
        <p:spPr>
          <a:xfrm flipV="1">
            <a:off x="4959000" y="4462200"/>
            <a:ext cx="1793160" cy="821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9" name="TextBox 9"/>
          <p:cNvSpPr/>
          <p:nvPr/>
        </p:nvSpPr>
        <p:spPr>
          <a:xfrm>
            <a:off x="2867040" y="5146560"/>
            <a:ext cx="23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ance to lo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ass and arrow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Straight Arrow Connector 12"/>
          <p:cNvCxnSpPr/>
          <p:nvPr/>
        </p:nvCxnSpPr>
        <p:spPr>
          <a:xfrm flipV="1">
            <a:off x="5111280" y="5282640"/>
            <a:ext cx="1793160" cy="819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2T19:08:10Z</dcterms:created>
  <dc:creator>Andrew Allan</dc:creator>
  <dc:description/>
  <dc:language>en-US</dc:language>
  <cp:lastModifiedBy>stephen ellis</cp:lastModifiedBy>
  <dcterms:modified xsi:type="dcterms:W3CDTF">2015-06-23T07:01:04Z</dcterms:modified>
  <cp:revision>12</cp:revision>
  <dc:subject/>
  <dc:title>GPS Mapping Challenge</dc:title>
</cp:coreProperties>
</file>